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4C6-B51C-44C8-A9F0-34FBD417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4DB-4191-4F6C-B013-9E9A3580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3F0-D8C8-4700-A574-B2BA2AB0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A20-80E5-4D01-B708-7A95EC0B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C4FBA-17D9-4218-AFBF-55D25B76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1E983-3349-462F-9462-FEDB9567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E720E-87AF-4A98-8A70-F094E182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07DF1-B6A1-4A6D-9805-1A79CFD0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9FCA7-A7EF-439E-A66C-9C207FDA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89973-5072-4013-ACB2-6E42962C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466A6-5546-4E53-9AD2-D1DC9ACC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6D2-8ED2-422C-B7B5-1AE700E5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A86A5-4087-4F6B-99FD-5BAA07AC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7E8AA-8456-4D48-A6E4-8D84F396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D809D-F409-4DB7-A6DD-9D53589A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FCD97-6A7D-4665-B636-F2D5F420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EA404-ABB0-4329-958D-AD1C2CDF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8E6-4C0D-4ABD-9EDE-C186F9A0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2EF-5B1E-45CA-BCE3-42596930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254-AA89-44E3-84DC-961EA8C8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829-2935-428A-A66D-428ED620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4A6-839B-43C7-BC39-422A998D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96F-EC50-4262-8F79-927EFCA6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95A-6DDC-4214-856D-90728E8B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3772-852E-4FF7-A21D-4C7DA147B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2379-B851-4490-86BF-D7CE1797C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WTb_huXK1Ju0QAPBSJzbkF;_ylu=X3oDMTBqNzBoY2J0BHBvcwMxNARzZWMDc3IEdnRpZAM-/SIG=1q32ugko5/EXP=1236184558/**http%3A//images.search.yahoo.com/images/view%3Fback=http%253A%252F%252Fimages.search.yahoo.com%252Fsearch%252Fimages%253Ffr2%253Dsg-gac%2526sado%253D1%2526p%253Dreduce%252520reuse%252520recycle%2526fr%253Dyfp-t-501%2526ei%253Dutf-8%2526vm%253Dr%2526x%253Dwrt%26w=499%26h=500%26imgurl=static.flickr.com%252F3006%252F2813358646_dfd4c1884a.jpg%26rurl=http%253A%252F%252Fwww.flickr.com%252Fphotos%252Fbuttonbistro%252F2813358646%252F%26size=139.8kB%26name=Go%2BGreen%2BRecycle%2Bpinback%2Bbuttons%2Bor%2Bmagnets%26p=reduce%2Breuse%2Brecycle%26type=JPG%26oid=b8c0d05c9b1e0712%26fusr=button%2Bbistro%26tit=Go%2BGreen%2BRecycle%2Bpinback%2Bbuttons%2Bor%2Bmagnets%26hurl=http%253A%252F%252Fwww.flickr.com%252Fphotos%252Fbuttonbistro%252F%26no=14%26tt=21,850%26sigr=11lpeqvu6%26sigi=11gk4t22l%26sigb=13qmjd2no%26sigh=11aqb2r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enviroscapes.com/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4724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66680" y="3049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Comic Sans MS"/>
              </a:rPr>
              <a:t>Earth B.E.A.T. 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by: Christopher Le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EBCA7-447C-4B2D-A362-D3D6B4C99C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March 4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1219320"/>
            <a:ext cx="81532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This program, in association with Keep Rockland Beautiful Inc.,  is designed for elementary and middle school students. Students rotate through 6 to 10 different “eco-stations” which fall under three main them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Comic Sans MS"/>
              </a:rPr>
              <a:t>Getting to know the local ec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Comic Sans MS"/>
              </a:rPr>
              <a:t>Protecting our natural resour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Comic Sans MS"/>
              </a:rPr>
              <a:t>Reduce, reuse, and recyc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600"/>
                </a:solidFill>
                <a:uFillTx/>
                <a:latin typeface="Comic Sans MS"/>
              </a:rPr>
              <a:t>What is Earth B.E.A.T.</a:t>
            </a:r>
            <a:r>
              <a:rPr b="1" lang="en-US" sz="2400" spc="-1" strike="noStrike">
                <a:solidFill>
                  <a:srgbClr val="00c6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180972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5029200"/>
            <a:ext cx="2057400" cy="1600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0600" y="6145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B</a:t>
            </a:r>
            <a:r>
              <a:rPr b="1" lang="en-US" sz="1800" spc="-1" strike="noStrike">
                <a:solidFill>
                  <a:srgbClr val="00c600"/>
                </a:solidFill>
                <a:latin typeface="Comic Sans MS"/>
              </a:rPr>
              <a:t>asic</a:t>
            </a:r>
            <a:r>
              <a:rPr b="0" lang="en-US" sz="1800" spc="-1" strike="noStrike">
                <a:solidFill>
                  <a:srgbClr val="00c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68680" y="61452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E</a:t>
            </a:r>
            <a:r>
              <a:rPr b="1" lang="en-US" sz="1800" spc="-1" strike="noStrike">
                <a:solidFill>
                  <a:srgbClr val="00c600"/>
                </a:solidFill>
                <a:latin typeface="Comic Sans MS"/>
              </a:rPr>
              <a:t>nvironmental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53560" y="61452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A</a:t>
            </a:r>
            <a:r>
              <a:rPr b="1" lang="en-US" sz="1800" spc="-1" strike="noStrike">
                <a:solidFill>
                  <a:srgbClr val="00c600"/>
                </a:solidFill>
                <a:latin typeface="Comic Sans MS"/>
              </a:rPr>
              <a:t>war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080" y="6145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T</a:t>
            </a:r>
            <a:r>
              <a:rPr b="1" lang="en-US" sz="1800" spc="-1" strike="noStrike">
                <a:solidFill>
                  <a:srgbClr val="00c600"/>
                </a:solidFill>
                <a:latin typeface="Comic Sans MS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53CB-2DFF-42BD-BE7D-FC02655589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0"/>
            <a:ext cx="693432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600"/>
                </a:solidFill>
                <a:uFillTx/>
                <a:latin typeface="Comic Sans MS"/>
              </a:rPr>
              <a:t>What is Earth B.E.A.T.</a:t>
            </a:r>
            <a:r>
              <a:rPr b="1" lang="en-US" sz="2400" spc="-1" strike="noStrike">
                <a:solidFill>
                  <a:srgbClr val="00c6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B</a:t>
            </a:r>
            <a:r>
              <a:rPr b="1" lang="en-US" sz="1800" spc="-1" strike="noStrike">
                <a:solidFill>
                  <a:srgbClr val="00c600"/>
                </a:solidFill>
                <a:latin typeface="Comic Sans MS"/>
              </a:rPr>
              <a:t>asic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E</a:t>
            </a:r>
            <a:r>
              <a:rPr b="1" lang="en-US" sz="1800" spc="-1" strike="noStrike">
                <a:solidFill>
                  <a:srgbClr val="00c600"/>
                </a:solidFill>
                <a:latin typeface="Comic Sans MS"/>
              </a:rPr>
              <a:t>nvironmental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A</a:t>
            </a:r>
            <a:r>
              <a:rPr b="1" lang="en-US" sz="1800" spc="-1" strike="noStrike">
                <a:solidFill>
                  <a:srgbClr val="00c600"/>
                </a:solidFill>
                <a:latin typeface="Comic Sans MS"/>
              </a:rPr>
              <a:t>wareness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T</a:t>
            </a:r>
            <a:r>
              <a:rPr b="1" lang="en-US" sz="1800" spc="-1" strike="noStrike">
                <a:solidFill>
                  <a:srgbClr val="00c600"/>
                </a:solidFill>
                <a:latin typeface="Comic Sans MS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14400"/>
            <a:ext cx="83818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Groups will consist of 10 – 12 students eac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Each “eco-station” will last approximately 15 - 20 minut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There are currently 23 different activities to choose from, including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ljlk"/>
          <p:cNvPicPr/>
          <p:nvPr/>
        </p:nvPicPr>
        <p:blipFill>
          <a:blip r:embed="rId1"/>
          <a:stretch/>
        </p:blipFill>
        <p:spPr>
          <a:xfrm>
            <a:off x="228600" y="190512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,kj/l"/>
          <p:cNvPicPr/>
          <p:nvPr/>
        </p:nvPicPr>
        <p:blipFill>
          <a:blip r:embed="rId2"/>
          <a:stretch/>
        </p:blipFill>
        <p:spPr>
          <a:xfrm>
            <a:off x="228600" y="4038480"/>
            <a:ext cx="221940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lkjlkj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2057400"/>
            <a:ext cx="2057400" cy="1743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38280" y="1905120"/>
            <a:ext cx="2971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cc00"/>
                </a:solidFill>
                <a:uFillTx/>
                <a:latin typeface="Comic Sans MS"/>
              </a:rPr>
              <a:t>Habitat Loss</a:t>
            </a:r>
            <a:r>
              <a:rPr b="0" lang="en-US" sz="1500" spc="-1" strike="noStrike">
                <a:solidFill>
                  <a:srgbClr val="ffcc00"/>
                </a:solidFill>
                <a:latin typeface="Comic Sans MS"/>
              </a:rPr>
              <a:t> - like musical chairs, but the tarp -- our habitat -- gets smaller and smaller relative to population, so fewer kids fit onto to i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886200"/>
            <a:ext cx="3276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cc00"/>
                </a:solidFill>
                <a:uFillTx/>
                <a:latin typeface="Comic Sans MS"/>
              </a:rPr>
              <a:t>Enviroscape model</a:t>
            </a:r>
            <a:r>
              <a:rPr b="0" lang="en-US" sz="1500" spc="-1" strike="noStrike">
                <a:solidFill>
                  <a:srgbClr val="ffcc00"/>
                </a:solidFill>
                <a:latin typeface="Comic Sans MS"/>
              </a:rPr>
              <a:t> -  allows children to squirt "rain" on a typical landscape and see how pollution from various land uses enters waterways. Virtually all schools request this activity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4038480"/>
            <a:ext cx="2819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cc00"/>
                </a:solidFill>
                <a:uFillTx/>
                <a:latin typeface="Comic Sans MS"/>
              </a:rPr>
              <a:t>Wildlife Bingo</a:t>
            </a:r>
            <a:r>
              <a:rPr b="0" lang="en-US" sz="1500" spc="-1" strike="noStrike">
                <a:solidFill>
                  <a:srgbClr val="ffcc00"/>
                </a:solidFill>
                <a:latin typeface="Comic Sans MS"/>
              </a:rPr>
              <a:t> – similar to regular bingo, instead of letters there are various wildlife animal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200" y="6019920"/>
            <a:ext cx="8469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Some </a:t>
            </a:r>
            <a:r>
              <a:rPr b="1" lang="en-US" sz="1700" spc="-1" strike="noStrike" u="sng">
                <a:solidFill>
                  <a:srgbClr val="ffcc00"/>
                </a:solidFill>
                <a:uFillTx/>
                <a:latin typeface="Comic Sans MS"/>
              </a:rPr>
              <a:t>other stations</a:t>
            </a: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: Garbage Relay, “Survival” Tag, Hudson River Riddles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Environmental Jeopardy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26B-7B80-45B0-AE32-D2A43F7C4F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457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600"/>
                </a:solidFill>
                <a:uFillTx/>
                <a:latin typeface="Comic Sans MS"/>
              </a:rPr>
              <a:t>Why are we participating in Earth B.E.A.T.</a:t>
            </a:r>
            <a:r>
              <a:rPr b="1" lang="en-US" sz="2400" spc="-1" strike="noStrike">
                <a:solidFill>
                  <a:srgbClr val="00c6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371600"/>
            <a:ext cx="89154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We are one of over 20 schools in Rockland County participating this y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This program will give our students an opportunity to better understand how WE ALL can protect our environment for ourselves and future generation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Environmental “contentiousness” is becoming increasingly important in our socie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Ecology and environmentalism is part of the 7th grade science curricul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This training can lead to more environmental activities in our school and commun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BA7-7148-487C-8C95-4AD71466F9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228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600"/>
                </a:solidFill>
                <a:uFillTx/>
                <a:latin typeface="Comic Sans MS"/>
              </a:rPr>
              <a:t>How/Who/When will we be participating in Earth B.E.A.T.</a:t>
            </a:r>
            <a:r>
              <a:rPr b="1" lang="en-US" sz="2400" spc="-1" strike="noStrike">
                <a:solidFill>
                  <a:srgbClr val="00c6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19320"/>
            <a:ext cx="9144000" cy="54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The logistics of the program are as follow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Date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- Thursday, April 2nd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Time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- 12:00 to 3:00 PM (Periods 5 – 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Location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- Gymnasi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Layout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- Two to three stations for each of the three main the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- East and West teams will be split on either side of the gymnas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- Each team will have similar “eco-stations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1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Participants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- All 7th grade students and their teachers will participate        this 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1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Teachers/parent volunteers will receive training to act as activity leaders for the various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Further information regarding teacher training and specific “eco-stations” will be coming via e-mail in the next couple of wee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43B-3177-4622-9F5B-E2D4A2D81F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3:24:48Z</dcterms:created>
  <dc:creator>North Rockland Schools</dc:creator>
  <dc:description/>
  <dc:language>en-US</dc:language>
  <cp:lastModifiedBy>North Rockland Schools</cp:lastModifiedBy>
  <dcterms:modified xsi:type="dcterms:W3CDTF">2009-03-03T22:07:26Z</dcterms:modified>
  <cp:revision>16</cp:revision>
  <dc:subject/>
  <dc:title>Slide 1</dc:title>
</cp:coreProperties>
</file>